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728A-D8CA-4AF0-A2DE-0A429B63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61FB-A905-4A98-9AE3-E8BA0AFB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02C2-FEAD-44E6-BDB3-15291721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8DF-C1C1-4D01-8DC0-9E53A050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E966-F44A-48FB-9EB9-95A5550C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89C2-758F-4208-9257-6A5FCCD6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0D41-31EE-48FA-AAED-D113000B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1CD4-C90F-4B8D-94AA-0F478FCF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EECC-A112-4299-8D25-45E204FA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0901-7D2B-4725-8AD4-93C2732A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C8A0-77ED-40C5-BC8B-F145163C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4A4-B746-49AE-96BB-E9056529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D4E4-1F87-4904-BEE7-4DCDC397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AC78-CEA5-4A5D-8FC1-616FCE4C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CC63-F537-4D04-82DA-E808E6FA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864E-5384-4E03-8450-58038D73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1152-4CF0-4745-93D6-2B029AE0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EC7BA-26D3-4D65-B5E2-FBEE6C74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ADA00-1D04-498B-8904-8E0A2B7F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B49CE-77A4-43DB-8132-151E8932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ED0C3-834E-4433-AB25-ACE4CCD4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0CD6E-13CF-43FA-8CDD-1D6FE557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029-6436-48FA-B7C2-B75284B7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A9500-238F-48C5-B09C-36872274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CAD7-DE28-4AFC-8D31-13CB61C1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91D43-4A4E-4CE2-A189-4277875F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F6965-51FD-4C41-BF74-26EC97DE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95E43-11F7-4C76-BFCE-800182E3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FB366-6A3C-4B11-9703-EEFA5D67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D0B05-120B-4901-AFBE-4496C2F3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269A2-BC6A-4B8E-AE46-3A65A77B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627BA-919E-47B4-B25E-308A93F0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B99B0-FC4F-4E42-8D0D-4CBB6923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8DFA-7A1D-4644-8A50-7213B4D4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D415D-9353-4C80-A5FC-5DEFD145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A2078-A35E-4947-B06A-4164B629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90ADD-D685-4023-B91A-D190CF87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1C4A3-DBDF-4A2F-B7F5-DDC0994F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6B798-4D77-4D6E-8B38-00305041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3EBDF-294D-4620-853B-E974DAE7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BFD38-DA01-4191-9C08-3EB91AC6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2E72C-8AE3-4D79-AE5C-56692211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1B941-4873-4C1F-AB78-D5F0F056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FEB-283E-4711-A299-B6103D26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5255-5861-4926-9854-D7E1EA08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16C1-82C5-41C3-BB7E-6CCDF614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7DB-4198-4C16-92A7-736349EF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E13B-60AE-4D82-BD7B-7B4DC8C2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B0A5-6AD4-4A5A-A553-BAA3E8E6BDA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0FB1-A57F-4267-9341-F388B67DE68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6BB5-869C-4521-9B1F-DFB8260F182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E1C0-5FDC-4A71-82B7-5A6BA003DF6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7864200" cy="1901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2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Charts and Visual Design Rule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1295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think that Pie Chart is the best type of charts to compare between years 2000 and 2007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D423-0993-4343-8A1E-D5E3EFD5A67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4771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0666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this on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8A40-502E-4792-AF3D-05ABF28A3E1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ome Bad Examp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Content Placeholder 6" descr="phillips2.jpg"/>
          <p:cNvPicPr/>
          <p:nvPr/>
        </p:nvPicPr>
        <p:blipFill>
          <a:blip r:embed="rId1"/>
          <a:stretch/>
        </p:blipFill>
        <p:spPr>
          <a:xfrm>
            <a:off x="685800" y="1752480"/>
            <a:ext cx="8229600" cy="4230720"/>
          </a:xfrm>
          <a:prstGeom prst="rect">
            <a:avLst/>
          </a:prstGeom>
          <a:ln w="0">
            <a:noFill/>
          </a:ln>
        </p:spPr>
      </p:pic>
      <p:sp>
        <p:nvSpPr>
          <p:cNvPr id="2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3F16-30A7-4684-8279-9265EB20946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Content Placeholder 6" descr="how_to3.gif"/>
          <p:cNvPicPr/>
          <p:nvPr/>
        </p:nvPicPr>
        <p:blipFill>
          <a:blip r:embed="rId1"/>
          <a:stretch/>
        </p:blipFill>
        <p:spPr>
          <a:xfrm>
            <a:off x="762120" y="1447920"/>
            <a:ext cx="7924680" cy="4316400"/>
          </a:xfrm>
          <a:prstGeom prst="rect">
            <a:avLst/>
          </a:prstGeom>
          <a:ln w="0">
            <a:noFill/>
          </a:ln>
        </p:spPr>
      </p:pic>
      <p:sp>
        <p:nvSpPr>
          <p:cNvPr id="25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F761-0137-428E-8F1E-857CA1B5FD3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Content Placeholder 6" descr="image003.jpg"/>
          <p:cNvPicPr/>
          <p:nvPr/>
        </p:nvPicPr>
        <p:blipFill>
          <a:blip r:embed="rId1"/>
          <a:stretch/>
        </p:blipFill>
        <p:spPr>
          <a:xfrm>
            <a:off x="609480" y="1371600"/>
            <a:ext cx="7391520" cy="4592520"/>
          </a:xfrm>
          <a:prstGeom prst="rect">
            <a:avLst/>
          </a:prstGeom>
          <a:ln w="0">
            <a:noFill/>
          </a:ln>
        </p:spPr>
      </p:pic>
      <p:sp>
        <p:nvSpPr>
          <p:cNvPr id="25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4FD4-EC19-47BF-9ED6-C7C66B2122F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769680" y="6019920"/>
            <a:ext cx="79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lilt.ilstu.edu/gmklass/pos138/datadisplay/sections/goodcharts.ht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mall Multi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2" name="Content Placeholder 6" descr="Smallmult.png"/>
          <p:cNvPicPr/>
          <p:nvPr/>
        </p:nvPicPr>
        <p:blipFill>
          <a:blip r:embed="rId1"/>
          <a:stretch/>
        </p:blipFill>
        <p:spPr>
          <a:xfrm>
            <a:off x="1309680" y="1940040"/>
            <a:ext cx="6524640" cy="3774960"/>
          </a:xfrm>
          <a:prstGeom prst="rect">
            <a:avLst/>
          </a:prstGeom>
          <a:ln w="0">
            <a:noFill/>
          </a:ln>
        </p:spPr>
      </p:pic>
      <p:sp>
        <p:nvSpPr>
          <p:cNvPr id="2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0A5E-060A-4B58-A2DA-C76AE73FDCB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1364760" y="594360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en.wikipedia.org/wik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, sheet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880" y="18284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chart from the data set provi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2625-9887-463D-9F8D-110552C3172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5867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what to do to make the chart looks bett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78E7-D81B-479A-8EA4-AF11B257EAF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oa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Chart Wizard to create the default chart on a data se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izing a chart according to good chart design principl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EDB2-C6C4-436F-8C0B-F5B440BB605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sing Chart Wizard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the following spreadsheet in Exce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top menu bar, select 'Insert' using your mouse. You should now see a group of icons labeled 'Charts', under the top menu b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data to be included in the char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your mouse to select the 'Column' chart. A drop down menu should appear showing the different types of column charts available. Select the type you wa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w column chart should have been added to your current worksheet. You can move the new chart by clicking-and-dragging it to a new location in the workshe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72EB-F778-4C26-9FDF-1A36E0B36D7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 (Column Chart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data in sheet1 to make a 2-D column cha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Dat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er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lum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D Colum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F9AA-E57F-4EBA-9325-C5C73BC288A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Chart 6" descr=""/>
          <p:cNvPicPr/>
          <p:nvPr/>
        </p:nvPicPr>
        <p:blipFill>
          <a:blip r:embed="rId1"/>
          <a:stretch/>
        </p:blipFill>
        <p:spPr>
          <a:xfrm>
            <a:off x="2432160" y="2968560"/>
            <a:ext cx="45846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color of the chart bars to be 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 Tool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ig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a horizontal title “Names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 Tool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out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xis Title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mary Horizontal Axis Tit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a vertical title “Length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both titles to 20 pt and 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click on the title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m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default title of the chart to be Family Childr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 Tool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out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art Tit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the legend in the ch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 Tool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out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gend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the Horizontal Gridlines from the Ch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 Tool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out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mary Horizontal  Gridline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02C8-0436-496F-8E5C-017B4111FEE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7F04-2700-425B-BF3E-C52ADB056A0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 (Pie Chart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Data in sheet2 to make Pie Chart for year 2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D P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5627-FE95-4C7A-9114-CA0D78F9E99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662940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another Chart for year 2007 and change its color to gre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Dat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er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D P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2C2E-C6F8-42C3-B371-12D200484D8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64008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0880" y="8377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legend of the second chart (2007) to be shown on the to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Data in second chart (2007) as follow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751B-A3C4-42FD-8487-97238E3D01A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315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ina</cp:lastModifiedBy>
  <dcterms:modified xsi:type="dcterms:W3CDTF">2009-01-26T18:26:45Z</dcterms:modified>
  <cp:revision>97</cp:revision>
  <dc:subject/>
  <dc:title>CPSC 203</dc:title>
</cp:coreProperties>
</file>